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305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2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Outline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vs. Mean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according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uddhism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urposeless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Purpose vs. Meaning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y are not the s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ople will often try to find meaning in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syphus' purpose is to continually roll a rock up a hill—does this give his life meaning? Not necessari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aning: Inherent value in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urpose: End goals to attain in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Christianity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de for God's ple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ultimate trust, obedience and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eals to our desire to feel significant in thi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de for God'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fellowship, helping and building each oth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eals to our desire to feel lov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Christianity 2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de to be like Chr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living in such a way as Christ is shown to live in the 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why this purpose may be ascribed are difficult to as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de to serve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de to “spread the wor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mission work out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you're thoroughly convinced of something, you can't help but tell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Islam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ahadah (Reciting a Cr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lah (Pray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times daily, in best possible Arabic and by heart, facing Me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e to focus mind on God, to feel a personal connection with th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akat (Alms-giv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ourages humility (a trait we all aspire to, righ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Islam 2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awm (fasting during Ramad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ain to seek nearness to God and remind them of the n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ajj (pilgrimage to Mec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expression of devotion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e as a precursor to striving for self-improvement (again something we all aspire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Buddhism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urpose is to ultimately extinguish desire and reach Nirv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ne through following the Noble Eightfold Pa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6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ght understanding, right aspirations, right speech, right conduct, right livelihood, right effort, mindfulness, and contemp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333333"/>
                </a:solidFill>
                <a:latin typeface="Arial"/>
              </a:rPr>
              <a:t>Purposelessness...?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Physics has something to say about the necessity of purpose ascribed by Desig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ng will discuss this in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ilac title area and left border with three blue-green accent elements on left border, gray background</dc:description>
  <dc:language>en-US</dc:language>
  <cp:lastModifiedBy/>
  <cp:revision>0</cp:revision>
  <dc:subject/>
  <dc:title/>
</cp:coreProperties>
</file>